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5D0-3E36-4CA7-91EE-69E01973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9DC-00B1-441D-8677-C21B22ED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474-0508-4CD2-864C-B035B044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65C-9D71-43F8-983A-06CFD529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340A-536F-4739-A745-0A2F7AC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03BF-7E56-4CA8-8870-7F617EDD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906C-3D2B-4007-AEAE-EB89EA59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C35F-FFB0-4849-8A7E-1F1D4D67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63F2-8EAC-41EF-910C-24714ABB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B41F-F83B-4190-97AC-7138B955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354C-D210-470E-8625-523FB4B0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452-433B-4DE8-90D6-EE64C90D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72C4-3F58-42B2-8505-D172ECD6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8D91-95A4-45E5-9A58-4060F35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2226-2ED3-4D4B-9B99-BD4791B4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98FC-6C6C-457E-8699-3613A0E3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2BA0-C680-4DEB-B3D3-57042053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4712-02CD-4F3E-9DF8-53626360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BEE8-F035-4C7B-AB87-FA65FBE1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B49B0-921E-45DC-9993-3908185D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8E56-DE44-47BC-BF32-D915A42C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71C5-D690-43AB-8144-0DF32AFE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2DF-ED45-4724-AA59-B6379B4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79986-96A6-403E-AA51-7C884E9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5E5D-A3FB-47CE-B2FB-BE776D5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6051-DACF-4872-ACC9-1944956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F28F-ED80-426C-B5F8-926D825E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8387-A1FF-4EE2-AA4F-CCF98BC4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480C-737D-4342-9356-B5E7F148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EA00-2298-455C-A5A2-28422DBC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A968-1E0E-47D7-B542-4CDE24C3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57C94-C81D-4C42-A808-45456578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9A3FB-ACB9-4FF2-B76C-53BC3061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5F7-333D-4FB9-A27F-253E05C0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1EA7-DCC2-497F-9B22-77A1DB4D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15AE9-6F92-430F-B6FA-1563ABC6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547C-FCCE-4552-A7C3-8E382DB8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AC2BF-58A3-4FF0-BB46-3E9A378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360A-4116-44B3-8088-EE8EA547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2BB0-80A1-43B3-A19C-02628CBD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338D5-5C79-42B6-BBE1-C66567F1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13279-9BDD-4B0B-8D01-8DEEE02C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29BED-5636-4B6E-8B50-5C6B149A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4DD9C-D203-45AF-B513-6AC4CF80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7E1-4496-4B04-8D11-9A496DF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A47A2-C4A3-4694-9614-A8E4531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7DB5E-51C0-4435-8F55-48794FDB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6293-BFBF-4FEA-84E6-EE62315D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4A81-432B-4A2D-A42B-BC36DEE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B0C05-B895-4CBC-AA0B-78A6410B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23BF4-2CFB-4BF6-A954-13D3AF4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A4FC-1538-4087-8444-7569557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EDFC-F386-4A4D-AA67-AC263188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5A251-BB45-43F4-9EC8-FB0FA98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22F0-1A58-4264-AC37-C920B503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F56-5242-4D97-8428-CFFC0374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559D5-6C51-42DF-A4E1-9EB66E8D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7E5B-5ADF-4AC2-9C9B-48FF822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C5C19-65E2-493E-BD99-2FEEF69A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1A84-9DE6-46AA-B7AA-306E259B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F1DF-DFD2-4C0C-B7E2-34E2EA7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AB4E2-3F70-4E79-8B3E-C7018B22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84B6-660E-461E-A364-4B320BA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722FF-CF32-4AF0-BEE2-557C4390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B6AC-107F-4A26-B845-77F83B4D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7269B-3303-41F3-B934-045401A9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FB9-F2F4-408A-8467-448860BA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96426-15F6-4317-8BB6-0900C1F4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A697D-71C9-49EC-B17D-8AAC397A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16052-EAF8-41B0-BE6F-88D271EB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BE586-D976-4BB1-A6D3-8AAB5B3C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2B0C-5907-4A93-BD0B-AB5BA2A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856A-964F-449E-B4DA-A3728EB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CCED5-7702-4D8B-97BC-B304A565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95F05-8744-4480-BF04-5234D9E0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04E8B-26E4-4E6D-A7C2-611FC345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B2D36-5F69-4746-918A-506838E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55A-167A-49C8-9B25-36E1BCE3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62F06-E41E-477D-A34B-95F5404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AB06-B8E6-49EE-9123-F76FA70C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8E44-82DC-48FD-BC4A-0490A085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347FA-79D1-4C4B-AB33-A6838BE6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947B-F5E8-47E5-8E29-E7252280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A59-35AA-46B6-A1C9-568D80C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145D-ED25-4B5F-9BFC-8D54776B530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25DB-1FF6-4B06-86DD-BA7B60073C6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B0EE-EE03-40E6-94AC-5AE8114A2CB9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E325-4DC6-489C-9A8E-DF6371AE36FF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B4AF-4F99-4B28-AB89-253CE76D537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B0E-EEB8-48D4-8771-57B7FE55EF9E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C4C-7983-4CE9-A527-BEBA3F74306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17A2-EB3E-4B0C-8B6A-2CE36F057046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4F3-246A-44E1-BC6D-4CD7A643A85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B70B-A37A-456C-9D7C-46B1C1E423D9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9EAF-700E-4F95-99C1-C11B33CA476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3E8-CD91-4932-823C-FD770ED699E1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C40-C917-4949-8CFD-EC53B1DFC9B7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0981-2E0F-4505-86E7-3836E25361E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Otrav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s.wikipedia.org/wiki/Otrava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upload.wikimedia.org/wikipedia/commons/f/f4/Main_symptoms_of_copper_poisoning.png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gtaccountancyservices.co.uk/f/3a8f3f6fd2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7777080" cy="1295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353440" cy="4464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Chemické příčiny poškození organism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7.11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</a:t>
            </a:r>
            <a:r>
              <a:rPr b="0" lang="cs-CZ" sz="19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4 zahrnuje vysvětlení pojmů souvisejících s chemickými příčinami poškození organismu – jedy, žíraviny, alergeny a popis jejich účinků. Prezentace je zakončena sérií otázek k opakování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lerge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teré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Potravin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Chemikáli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ov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Pyl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způsobuj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Lokální reakce – zčervenání, otok, svědění, bolest, puchýře…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Celkové reakce – otok, dušnost, astma, bezvědomí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mr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novinky.cz/koktejl/263742-ani-matka-me-nepoznala-popsala-zena-svou-alergickou-reakci-na-obal-mobilu.htm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menujte co nejvíce chemikálií, které mohou poškodit organismus člověka a ja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poleptán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koagulační a co kolikvační nekróz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 působí jed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všechno může být j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může být alerge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 vypadá alergická reakce lokální a globáln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CHEMICKÉ PŘÍČINY POŠKOZENÍ ORGANISMU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teré chemikálie škodí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ed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Žíravin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kyseli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lou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Alerge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Jed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Jedy – co způsobuj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Intoxikace = otravy 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– záleží na druhu jedu, na dávce, způsobu podání, vnímavosti organismu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Poškození epitelů, poruchy vědomí, zažívání, krevního oběhu, duševní poruch, nádory, nekrózy, poškození intelektu, oslepnutí (metanol), poškození plodu, poškození imunitního systému, závislosti,….smr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Jaké jedy např.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Hadí, hmyzí, plyny  (CO…), těžké kovy (Pb, Cd, Hg), vinylchlorid, PCB, dioxiny, dusičnany, alkohol, drogy, léky, cigaretový kouř, exhalace, spaliny, drogerie, 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Pomoc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Hlavní příznaky </a:t>
            </a:r>
            <a:r>
              <a:rPr b="1" lang="cs-CZ" sz="45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otrav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3" name="Zástupný symbol pro obsah 3" descr="http://upload.wikimedia.org/wikipedia/commons/f/f4/Main_symptoms_of_copper_poisoning.png"/>
          <p:cNvPicPr/>
          <p:nvPr/>
        </p:nvPicPr>
        <p:blipFill>
          <a:blip r:embed="rId2"/>
          <a:stretch/>
        </p:blipFill>
        <p:spPr>
          <a:xfrm>
            <a:off x="250920" y="1484280"/>
            <a:ext cx="4825800" cy="4392720"/>
          </a:xfrm>
          <a:prstGeom prst="rect">
            <a:avLst/>
          </a:prstGeom>
          <a:ln w="0">
            <a:noFill/>
          </a:ln>
        </p:spPr>
      </p:pic>
      <p:sp>
        <p:nvSpPr>
          <p:cNvPr id="314" name="Obdélník 4"/>
          <p:cNvSpPr/>
          <p:nvPr/>
        </p:nvSpPr>
        <p:spPr>
          <a:xfrm>
            <a:off x="5219640" y="1557360"/>
            <a:ext cx="3673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upload.wikimedia.org/wikipedia/commons/f/f4/Main_symptoms_of_copper_poisoning.png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30.9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hills – zim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Fever – horeč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ain – bol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etalic taste – kovová chu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onvulsion – kře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ches – bole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Weakness – slab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ecreased function – snížená funk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iarrhea (bloody or bluish) – průjem (s krví nebo zeleným hlen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Yellowing – zežloutnu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emia – chudokrev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hock – š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omiting – zvrac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ausea – nevo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bdominal pain – bolest bři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urning sensation – pál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o urine production – zástava moče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yseli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teré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Kterékoli, záleží na druhu, koncentraci, místě a době působení, = vážný úraz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způsob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leptání  - suchou nekrózu (kůže, jícnu, očí, dutiny ústní…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Louh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teré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apř. NaOH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způsob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leptání, vlhkou - kolikvační nekrózu, zmýdelně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leptání – následky – hypertextové odkaz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Důsledky  úrazů způsobených chemikáliemi - obrázk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Útok kyselin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leptání jícn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žití kyselin a louh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20:32:27Z</dcterms:created>
  <dc:creator>Veronika</dc:creator>
  <dc:description/>
  <dc:language>en-US</dc:language>
  <cp:lastModifiedBy>Chalupna</cp:lastModifiedBy>
  <dcterms:modified xsi:type="dcterms:W3CDTF">2014-03-31T20:41:23Z</dcterms:modified>
  <cp:revision>10</cp:revision>
  <dc:subject/>
  <dc:title>Snímek 1</dc:title>
</cp:coreProperties>
</file>